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470-340B-40B8-97F4-FB8AEF66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BD3-0881-4BF5-8201-0992A1B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40B-C83A-44B5-B528-F0F3209C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FAB-5F25-482D-BF23-5BFF5C98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629-D227-4334-A0FF-60175B3A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895-ECF4-4FD3-8873-1F3091DB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14F-06F1-4E38-BF6F-73442D68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908-2831-4EC9-97A6-B49927F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5CB-F6D5-48C9-AFE8-0F43B326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DB4-1485-4559-854E-EE16701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296-A675-4F31-A81B-C62737D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470-AEE3-423A-8A49-541F251F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C03A-3C91-4849-86CA-70D74378ED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57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!PaulMaul Longs"/>
              </a:rPr>
              <a:t>Scenari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324000" y="5734080"/>
            <a:ext cx="5748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gent Orange"/>
                <a:ea typeface="Agent Orange"/>
              </a:rPr>
              <a:t>Textil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gent Orange"/>
                <a:ea typeface="Agent Orange"/>
              </a:rPr>
              <a:t>probl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01ta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01tama"/>
              </a:rPr>
              <a:t>The shipment cannot be sent to Singapore from cochin, because the cargo should be repackage from singapore and sent to Germany in two 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gent Orange"/>
                <a:ea typeface="Agent Orange"/>
              </a:rPr>
              <a:t>probl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01ta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01tama"/>
              </a:rPr>
              <a:t>The Logistics Manager is Responsible for both Singapore and German offi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gent Orange"/>
                <a:ea typeface="Agent Orange"/>
              </a:rPr>
              <a:t>21century skil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 and Ada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and Intellectual 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and System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Media Literac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dentification, Formulation, an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gent Orange"/>
                <a:ea typeface="Agent Orange"/>
              </a:rPr>
              <a:t>21century skil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ER</cp:lastModifiedBy>
  <dcterms:modified xsi:type="dcterms:W3CDTF">2012-06-28T00:42:19Z</dcterms:modified>
  <cp:revision>827</cp:revision>
  <dc:subject/>
  <dc:title>Diapositiva 1</dc:title>
</cp:coreProperties>
</file>